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0AF6-CFD9-4402-8F60-8D7DEC6F9B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D7AB-4C05-4C80-821B-7B6EDF05F1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8212-1EC8-476E-A5D3-94879F4AFB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7394-B577-47E4-AFD2-AD4FC888BE1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B5C2-0071-457C-96B2-78A224AD50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BA39-314F-4354-91F5-1A74B78983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B48A-BDBC-47E1-BE37-24EA513885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2F65-8D8A-439F-88C5-89E02C3F50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BAF6-04A6-4A02-AD07-2B3FACA336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DE96-43E6-4CAF-B3A4-79CEA83E72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24DB-A1AF-4CDA-B864-74337D46E04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DFC-4A9C-4819-AAAC-175564F534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5BBE-AE0B-4D4B-AF67-CC3B8F91D5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5390-66A2-4DC1-8FCF-A2004DE71ED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F70-B714-4599-9D88-120EBA3BC7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4B83-7FB1-4428-A41C-40D399BC53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1B75-07BC-4CF8-A266-B99F642F00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23D-0F7F-4210-9DB3-271B9B539C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241F-8B7A-493D-B47D-AF1C02E15FF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F5C8-CCBE-431E-A499-B2ADF86CF8F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8FC5-D828-483A-A518-48BCF8659FF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7F57-EDAC-41F6-8031-2190838DFD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041A-EC78-4A3F-98C5-384591EFF16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267-F625-4C4D-8181-93F7360C3E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E61-379A-4A7D-8D16-4885A58549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B9EA-74E7-49C7-8A83-D6C6E16A4F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D276-888C-4883-807A-09559F4DEE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6344-B72E-4FCD-B9DE-1CDC43C803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375D-4686-433A-BCFA-618BE9B8F3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B054-E3F4-4D37-BA83-9744D7AD53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C19-F9E1-45A7-A1F8-38BB6F7B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9A2-8E2F-4B32-95FA-8091365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BEA-4E11-4C81-B6F0-BEC8889D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C3D-09FC-4D51-9D01-0D105FF2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CC6-4508-4FF3-B9A4-334C2F76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57E-B0E9-470D-8036-3A3263AD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3C0-83C0-45AD-80BE-A1F69B72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7FA-D2D7-4CC0-AE82-C85A3841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BAB-A672-478E-8577-FB1F19D7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7A5-A9C9-48E0-8C9E-2872D855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BE3-FB24-451C-A0F9-3418FD68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73A-3FAC-40DB-8735-55EC41C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7265-B5EB-402E-9600-8D580E39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apetownskies.com/7739/01_cirrus_fluffy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loud Typ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2514600" y="533520"/>
            <a:ext cx="3886200" cy="5638680"/>
          </a:xfrm>
          <a:custGeom>
            <a:avLst/>
            <a:gdLst>
              <a:gd name="textAreaLeft" fmla="*/ 251640 w 3886200"/>
              <a:gd name="textAreaRight" fmla="*/ 3634560 w 3886200"/>
              <a:gd name="textAreaTop" fmla="*/ 251640 h 5638680"/>
              <a:gd name="textAreaBottom" fmla="*/ 5387040 h 5638680"/>
            </a:gdLst>
            <a:ahLst/>
            <a:rect l="textAreaLeft" t="textAreaTop" r="textAreaRight" b="textAreaBottom"/>
            <a:pathLst>
              <a:path w="21600" h="31340">
                <a:moveTo>
                  <a:pt x="0" y="0"/>
                </a:moveTo>
                <a:lnTo>
                  <a:pt x="21600" y="0"/>
                </a:lnTo>
                <a:lnTo>
                  <a:pt x="21600" y="31340"/>
                </a:lnTo>
                <a:lnTo>
                  <a:pt x="0" y="31340"/>
                </a:lnTo>
                <a:close/>
              </a:path>
              <a:path fill="lightenLess" w="21600" h="313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340">
                <a:moveTo>
                  <a:pt x="21600" y="0"/>
                </a:moveTo>
                <a:lnTo>
                  <a:pt x="21600" y="31340"/>
                </a:lnTo>
                <a:lnTo>
                  <a:pt x="20200" y="29940"/>
                </a:lnTo>
                <a:lnTo>
                  <a:pt x="20200" y="1400"/>
                </a:lnTo>
                <a:close/>
              </a:path>
              <a:path fill="darkenLess" w="21600" h="31340">
                <a:moveTo>
                  <a:pt x="21600" y="31340"/>
                </a:moveTo>
                <a:lnTo>
                  <a:pt x="0" y="31340"/>
                </a:lnTo>
                <a:lnTo>
                  <a:pt x="1400" y="29940"/>
                </a:lnTo>
                <a:lnTo>
                  <a:pt x="20200" y="29940"/>
                </a:lnTo>
                <a:close/>
              </a:path>
              <a:path fill="lighten" w="21600" h="31340">
                <a:moveTo>
                  <a:pt x="0" y="313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94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irrus UK"/>
          <p:cNvPicPr/>
          <p:nvPr/>
        </p:nvPicPr>
        <p:blipFill>
          <a:blip r:embed="rId1"/>
          <a:stretch/>
        </p:blipFill>
        <p:spPr>
          <a:xfrm>
            <a:off x="2782800" y="838080"/>
            <a:ext cx="33163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rus 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rus generally occur in fair weather and point in the direction of air movement at their elev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2514600" y="3505320"/>
            <a:ext cx="4495680" cy="3047760"/>
          </a:xfrm>
          <a:custGeom>
            <a:avLst/>
            <a:gdLst>
              <a:gd name="textAreaLeft" fmla="*/ 197280 w 4495680"/>
              <a:gd name="textAreaRight" fmla="*/ 4298400 w 4495680"/>
              <a:gd name="textAreaTop" fmla="*/ 197280 h 3047760"/>
              <a:gd name="textAreaBottom" fmla="*/ 2850480 h 3047760"/>
            </a:gdLst>
            <a:ahLst/>
            <a:rect l="textAreaLeft" t="textAreaTop" r="textAreaRight" b="textAreaBottom"/>
            <a:pathLst>
              <a:path w="31860" h="21600">
                <a:moveTo>
                  <a:pt x="0" y="0"/>
                </a:moveTo>
                <a:lnTo>
                  <a:pt x="31860" y="0"/>
                </a:lnTo>
                <a:lnTo>
                  <a:pt x="31860" y="21600"/>
                </a:lnTo>
                <a:lnTo>
                  <a:pt x="0" y="21600"/>
                </a:lnTo>
                <a:close/>
              </a:path>
              <a:path fill="lightenLess" w="31860" h="21600">
                <a:moveTo>
                  <a:pt x="0" y="0"/>
                </a:moveTo>
                <a:lnTo>
                  <a:pt x="31860" y="0"/>
                </a:lnTo>
                <a:lnTo>
                  <a:pt x="30461" y="1400"/>
                </a:lnTo>
                <a:lnTo>
                  <a:pt x="1400" y="1400"/>
                </a:lnTo>
                <a:close/>
              </a:path>
              <a:path fill="darken" w="31860" h="21600">
                <a:moveTo>
                  <a:pt x="31860" y="0"/>
                </a:moveTo>
                <a:lnTo>
                  <a:pt x="31860" y="21600"/>
                </a:lnTo>
                <a:lnTo>
                  <a:pt x="30461" y="20200"/>
                </a:lnTo>
                <a:lnTo>
                  <a:pt x="30461" y="1400"/>
                </a:lnTo>
                <a:close/>
              </a:path>
              <a:path fill="darkenLess" w="31860" h="21600">
                <a:moveTo>
                  <a:pt x="31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61" y="20200"/>
                </a:lnTo>
                <a:close/>
              </a:path>
              <a:path fill="lighten" w="31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irrus shape"/>
          <p:cNvPicPr/>
          <p:nvPr/>
        </p:nvPicPr>
        <p:blipFill>
          <a:blip r:embed="rId1"/>
          <a:stretch/>
        </p:blipFill>
        <p:spPr>
          <a:xfrm>
            <a:off x="2819520" y="3747960"/>
            <a:ext cx="39621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762120" y="1600200"/>
            <a:ext cx="7696080" cy="4952880"/>
          </a:xfrm>
          <a:custGeom>
            <a:avLst/>
            <a:gdLst>
              <a:gd name="textAreaLeft" fmla="*/ 320760 w 7696080"/>
              <a:gd name="textAreaRight" fmla="*/ 7375320 w 7696080"/>
              <a:gd name="textAreaTop" fmla="*/ 320760 h 4952880"/>
              <a:gd name="textAreaBottom" fmla="*/ 4632120 h 4952880"/>
            </a:gdLst>
            <a:ahLst/>
            <a:rect l="textAreaLeft" t="textAreaTop" r="textAreaRight" b="textAreaBottom"/>
            <a:pathLst>
              <a:path w="33562" h="21600">
                <a:moveTo>
                  <a:pt x="0" y="0"/>
                </a:moveTo>
                <a:lnTo>
                  <a:pt x="33562" y="0"/>
                </a:lnTo>
                <a:lnTo>
                  <a:pt x="33562" y="21600"/>
                </a:lnTo>
                <a:lnTo>
                  <a:pt x="0" y="21600"/>
                </a:lnTo>
                <a:close/>
              </a:path>
              <a:path fill="lightenLess" w="33562" h="21600">
                <a:moveTo>
                  <a:pt x="0" y="0"/>
                </a:moveTo>
                <a:lnTo>
                  <a:pt x="33562" y="0"/>
                </a:lnTo>
                <a:lnTo>
                  <a:pt x="32163" y="1400"/>
                </a:lnTo>
                <a:lnTo>
                  <a:pt x="1400" y="1400"/>
                </a:lnTo>
                <a:close/>
              </a:path>
              <a:path fill="darken" w="33562" h="21600">
                <a:moveTo>
                  <a:pt x="33562" y="0"/>
                </a:moveTo>
                <a:lnTo>
                  <a:pt x="33562" y="21600"/>
                </a:lnTo>
                <a:lnTo>
                  <a:pt x="32163" y="20200"/>
                </a:lnTo>
                <a:lnTo>
                  <a:pt x="32163" y="1400"/>
                </a:lnTo>
                <a:close/>
              </a:path>
              <a:path fill="darkenLess" w="33562" h="21600">
                <a:moveTo>
                  <a:pt x="33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3" y="20200"/>
                </a:lnTo>
                <a:close/>
              </a:path>
              <a:path fill="lighten" w="33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rus 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rs2"/>
          <p:cNvPicPr/>
          <p:nvPr/>
        </p:nvPicPr>
        <p:blipFill>
          <a:blip r:embed="rId1"/>
          <a:stretch/>
        </p:blipFill>
        <p:spPr>
          <a:xfrm>
            <a:off x="1231920" y="1946160"/>
            <a:ext cx="67816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ow Clouds = Stratus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imbostr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457200"/>
            <a:ext cx="853416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w clouds are of made of water droplets.  However, when temperatures are cold enough, these clouds may also contain ice particles and snow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533520" y="106668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212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ome3"/>
          <p:cNvPicPr/>
          <p:nvPr/>
        </p:nvPicPr>
        <p:blipFill>
          <a:blip r:embed="rId1"/>
          <a:stretch/>
        </p:blipFill>
        <p:spPr>
          <a:xfrm>
            <a:off x="990720" y="1447920"/>
            <a:ext cx="7086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533520" y="106668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4920" y="212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tratocumulus with blue sky in gaps"/>
          <p:cNvPicPr/>
          <p:nvPr/>
        </p:nvPicPr>
        <p:blipFill>
          <a:blip r:embed="rId1"/>
          <a:stretch/>
        </p:blipFill>
        <p:spPr>
          <a:xfrm>
            <a:off x="1143000" y="1560600"/>
            <a:ext cx="70102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4114800" y="4191120"/>
            <a:ext cx="2895480" cy="2666880"/>
          </a:xfrm>
          <a:custGeom>
            <a:avLst/>
            <a:gdLst>
              <a:gd name="textAreaLeft" fmla="*/ 172800 w 2895480"/>
              <a:gd name="textAreaRight" fmla="*/ 2722680 w 2895480"/>
              <a:gd name="textAreaTop" fmla="*/ 172800 h 2666880"/>
              <a:gd name="textAreaBottom" fmla="*/ 2494080 h 2666880"/>
            </a:gdLst>
            <a:ahLst/>
            <a:rect l="textAreaLeft" t="textAreaTop" r="textAreaRight" b="textAreaBottom"/>
            <a:pathLst>
              <a:path w="23451" h="21600">
                <a:moveTo>
                  <a:pt x="0" y="0"/>
                </a:moveTo>
                <a:lnTo>
                  <a:pt x="23451" y="0"/>
                </a:lnTo>
                <a:lnTo>
                  <a:pt x="23451" y="21600"/>
                </a:lnTo>
                <a:lnTo>
                  <a:pt x="0" y="21600"/>
                </a:lnTo>
                <a:close/>
              </a:path>
              <a:path fill="lightenLess" w="23451" h="21600">
                <a:moveTo>
                  <a:pt x="0" y="0"/>
                </a:moveTo>
                <a:lnTo>
                  <a:pt x="23451" y="0"/>
                </a:lnTo>
                <a:lnTo>
                  <a:pt x="22051" y="1400"/>
                </a:lnTo>
                <a:lnTo>
                  <a:pt x="1400" y="1400"/>
                </a:lnTo>
                <a:close/>
              </a:path>
              <a:path fill="darken" w="23451" h="21600">
                <a:moveTo>
                  <a:pt x="23451" y="0"/>
                </a:moveTo>
                <a:lnTo>
                  <a:pt x="23451" y="21600"/>
                </a:lnTo>
                <a:lnTo>
                  <a:pt x="22051" y="20200"/>
                </a:lnTo>
                <a:lnTo>
                  <a:pt x="22051" y="1400"/>
                </a:lnTo>
                <a:close/>
              </a:path>
              <a:path fill="darkenLess" w="23451" h="21600">
                <a:moveTo>
                  <a:pt x="23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1" y="20200"/>
                </a:lnTo>
                <a:close/>
              </a:path>
              <a:path fill="lighten" w="23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743200" y="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62120" y="12193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at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es from the Latin word that means "to spread out." Stratus clouds are horizontal, layered clouds that stretch out across the sky like a blanke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tratus"/>
          <p:cNvPicPr/>
          <p:nvPr/>
        </p:nvPicPr>
        <p:blipFill>
          <a:blip r:embed="rId1"/>
          <a:stretch/>
        </p:blipFill>
        <p:spPr>
          <a:xfrm>
            <a:off x="4343400" y="4419720"/>
            <a:ext cx="24382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ratus Clou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tus Clouds stretch across the sky in low, large flat layers. They resemble fog, but they do not reach the ground. They often produce mist or drizzl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676520" y="1295280"/>
            <a:ext cx="5943600" cy="4191120"/>
          </a:xfrm>
          <a:custGeom>
            <a:avLst/>
            <a:gdLst>
              <a:gd name="textAreaLeft" fmla="*/ 271440 w 5943600"/>
              <a:gd name="textAreaRight" fmla="*/ 5672160 w 5943600"/>
              <a:gd name="textAreaTop" fmla="*/ 271440 h 4191120"/>
              <a:gd name="textAreaBottom" fmla="*/ 3919680 h 4191120"/>
            </a:gdLst>
            <a:ahLst/>
            <a:rect l="textAreaLeft" t="textAreaTop" r="textAreaRight" b="textAreaBottom"/>
            <a:pathLst>
              <a:path w="30631" h="21600">
                <a:moveTo>
                  <a:pt x="0" y="0"/>
                </a:moveTo>
                <a:lnTo>
                  <a:pt x="30631" y="0"/>
                </a:lnTo>
                <a:lnTo>
                  <a:pt x="30631" y="21600"/>
                </a:lnTo>
                <a:lnTo>
                  <a:pt x="0" y="21600"/>
                </a:lnTo>
                <a:close/>
              </a:path>
              <a:path fill="lightenLess" w="30631" h="21600">
                <a:moveTo>
                  <a:pt x="0" y="0"/>
                </a:moveTo>
                <a:lnTo>
                  <a:pt x="30631" y="0"/>
                </a:lnTo>
                <a:lnTo>
                  <a:pt x="29231" y="1400"/>
                </a:lnTo>
                <a:lnTo>
                  <a:pt x="1400" y="1400"/>
                </a:lnTo>
                <a:close/>
              </a:path>
              <a:path fill="darken" w="30631" h="21600">
                <a:moveTo>
                  <a:pt x="30631" y="0"/>
                </a:moveTo>
                <a:lnTo>
                  <a:pt x="30631" y="21600"/>
                </a:lnTo>
                <a:lnTo>
                  <a:pt x="29231" y="20200"/>
                </a:lnTo>
                <a:lnTo>
                  <a:pt x="29231" y="1400"/>
                </a:lnTo>
                <a:close/>
              </a:path>
              <a:path fill="darkenLess" w="30631" h="21600">
                <a:moveTo>
                  <a:pt x="30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1" y="20200"/>
                </a:lnTo>
                <a:close/>
              </a:path>
              <a:path fill="lighten" w="30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stratus01"/>
          <p:cNvPicPr/>
          <p:nvPr/>
        </p:nvPicPr>
        <p:blipFill>
          <a:blip r:embed="rId1"/>
          <a:srcRect l="0" t="0" r="1404" b="0"/>
          <a:stretch/>
        </p:blipFill>
        <p:spPr>
          <a:xfrm>
            <a:off x="1981080" y="1600200"/>
            <a:ext cx="53341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are cloud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loud is made up of tiny water droplets and/or ice crystals, a snowflake is a collection of many ice crystals, and rain is just liquid water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066680" y="1066680"/>
            <a:ext cx="7162920" cy="5105520"/>
          </a:xfrm>
          <a:custGeom>
            <a:avLst/>
            <a:gdLst>
              <a:gd name="textAreaLeft" fmla="*/ 330840 w 7162920"/>
              <a:gd name="textAreaRight" fmla="*/ 6832080 w 7162920"/>
              <a:gd name="textAreaTop" fmla="*/ 330840 h 5105520"/>
              <a:gd name="textAreaBottom" fmla="*/ 4774680 h 5105520"/>
            </a:gdLst>
            <a:ahLst/>
            <a:rect l="textAreaLeft" t="textAreaTop" r="textAreaRight" b="textAreaBottom"/>
            <a:pathLst>
              <a:path w="30304" h="21600">
                <a:moveTo>
                  <a:pt x="0" y="0"/>
                </a:moveTo>
                <a:lnTo>
                  <a:pt x="30304" y="0"/>
                </a:lnTo>
                <a:lnTo>
                  <a:pt x="30304" y="21600"/>
                </a:lnTo>
                <a:lnTo>
                  <a:pt x="0" y="21600"/>
                </a:lnTo>
                <a:close/>
              </a:path>
              <a:path fill="lightenLess" w="30304" h="21600">
                <a:moveTo>
                  <a:pt x="0" y="0"/>
                </a:moveTo>
                <a:lnTo>
                  <a:pt x="30304" y="0"/>
                </a:lnTo>
                <a:lnTo>
                  <a:pt x="28904" y="1400"/>
                </a:lnTo>
                <a:lnTo>
                  <a:pt x="1400" y="1400"/>
                </a:lnTo>
                <a:close/>
              </a:path>
              <a:path fill="darken" w="30304" h="21600">
                <a:moveTo>
                  <a:pt x="30304" y="0"/>
                </a:moveTo>
                <a:lnTo>
                  <a:pt x="30304" y="21600"/>
                </a:lnTo>
                <a:lnTo>
                  <a:pt x="28904" y="20200"/>
                </a:lnTo>
                <a:lnTo>
                  <a:pt x="28904" y="1400"/>
                </a:lnTo>
                <a:close/>
              </a:path>
              <a:path fill="darkenLess" w="30304" h="21600">
                <a:moveTo>
                  <a:pt x="30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4" y="20200"/>
                </a:lnTo>
                <a:close/>
              </a:path>
              <a:path fill="lighten" w="30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tratus14"/>
          <p:cNvPicPr/>
          <p:nvPr/>
        </p:nvPicPr>
        <p:blipFill>
          <a:blip r:embed="rId1"/>
          <a:stretch/>
        </p:blipFill>
        <p:spPr>
          <a:xfrm>
            <a:off x="1447920" y="1447920"/>
            <a:ext cx="6391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1219320" y="934920"/>
            <a:ext cx="6629400" cy="5181840"/>
          </a:xfrm>
          <a:custGeom>
            <a:avLst/>
            <a:gdLst>
              <a:gd name="textAreaLeft" fmla="*/ 335520 w 6629400"/>
              <a:gd name="textAreaRight" fmla="*/ 6293880 w 6629400"/>
              <a:gd name="textAreaTop" fmla="*/ 335520 h 5181840"/>
              <a:gd name="textAreaBottom" fmla="*/ 4846320 h 5181840"/>
            </a:gdLst>
            <a:ahLst/>
            <a:rect l="textAreaLeft" t="textAreaTop" r="textAreaRight" b="textAreaBottom"/>
            <a:pathLst>
              <a:path w="27634" h="21600">
                <a:moveTo>
                  <a:pt x="0" y="0"/>
                </a:moveTo>
                <a:lnTo>
                  <a:pt x="27634" y="0"/>
                </a:lnTo>
                <a:lnTo>
                  <a:pt x="27634" y="21600"/>
                </a:lnTo>
                <a:lnTo>
                  <a:pt x="0" y="21600"/>
                </a:lnTo>
                <a:close/>
              </a:path>
              <a:path fill="lightenLess" w="27634" h="21600">
                <a:moveTo>
                  <a:pt x="0" y="0"/>
                </a:moveTo>
                <a:lnTo>
                  <a:pt x="27634" y="0"/>
                </a:lnTo>
                <a:lnTo>
                  <a:pt x="26234" y="1400"/>
                </a:lnTo>
                <a:lnTo>
                  <a:pt x="1400" y="1400"/>
                </a:lnTo>
                <a:close/>
              </a:path>
              <a:path fill="darken" w="27634" h="21600">
                <a:moveTo>
                  <a:pt x="27634" y="0"/>
                </a:moveTo>
                <a:lnTo>
                  <a:pt x="27634" y="21600"/>
                </a:lnTo>
                <a:lnTo>
                  <a:pt x="26234" y="20200"/>
                </a:lnTo>
                <a:lnTo>
                  <a:pt x="26234" y="1400"/>
                </a:lnTo>
                <a:close/>
              </a:path>
              <a:path fill="darkenLess" w="27634" h="21600">
                <a:moveTo>
                  <a:pt x="27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4" y="20200"/>
                </a:lnTo>
                <a:close/>
              </a:path>
              <a:path fill="lighten" w="27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tratus18"/>
          <p:cNvPicPr/>
          <p:nvPr/>
        </p:nvPicPr>
        <p:blipFill>
          <a:blip r:embed="rId1"/>
          <a:stretch/>
        </p:blipFill>
        <p:spPr>
          <a:xfrm>
            <a:off x="1600200" y="13716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tically Developed Cumu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r weather cumulus have the appearance of floating cotton and have a lifetime of 5-40 minutes. The wor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umul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es from the Latin word for a heap or a pile. Cumulus clouds are puffy in appearance. They look like large cotton bal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6"/>
          <p:cNvSpPr/>
          <p:nvPr/>
        </p:nvSpPr>
        <p:spPr>
          <a:xfrm>
            <a:off x="4952880" y="4038480"/>
            <a:ext cx="3886200" cy="2743200"/>
          </a:xfrm>
          <a:custGeom>
            <a:avLst/>
            <a:gdLst>
              <a:gd name="textAreaLeft" fmla="*/ 177480 w 3886200"/>
              <a:gd name="textAreaRight" fmla="*/ 3708720 w 388620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30599" h="21600">
                <a:moveTo>
                  <a:pt x="0" y="0"/>
                </a:moveTo>
                <a:lnTo>
                  <a:pt x="30599" y="0"/>
                </a:lnTo>
                <a:lnTo>
                  <a:pt x="30599" y="21600"/>
                </a:lnTo>
                <a:lnTo>
                  <a:pt x="0" y="21600"/>
                </a:lnTo>
                <a:close/>
              </a:path>
              <a:path fill="lightenLess" w="30599" h="21600">
                <a:moveTo>
                  <a:pt x="0" y="0"/>
                </a:moveTo>
                <a:lnTo>
                  <a:pt x="30599" y="0"/>
                </a:lnTo>
                <a:lnTo>
                  <a:pt x="29199" y="1400"/>
                </a:lnTo>
                <a:lnTo>
                  <a:pt x="1400" y="1400"/>
                </a:lnTo>
                <a:close/>
              </a:path>
              <a:path fill="darken" w="30599" h="21600">
                <a:moveTo>
                  <a:pt x="30599" y="0"/>
                </a:moveTo>
                <a:lnTo>
                  <a:pt x="30599" y="21600"/>
                </a:lnTo>
                <a:lnTo>
                  <a:pt x="29199" y="20200"/>
                </a:lnTo>
                <a:lnTo>
                  <a:pt x="29199" y="1400"/>
                </a:lnTo>
                <a:close/>
              </a:path>
              <a:path fill="darkenLess" w="30599" h="21600">
                <a:moveTo>
                  <a:pt x="30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9" y="20200"/>
                </a:lnTo>
                <a:close/>
              </a:path>
              <a:path fill="lighten" w="30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mulus Clou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mless fair weather cumulus clouds can later develop into towering cumulonimbus clouds associated with powerful thunderstor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rcu1"/>
          <p:cNvPicPr/>
          <p:nvPr/>
        </p:nvPicPr>
        <p:blipFill>
          <a:blip r:embed="rId1"/>
          <a:stretch/>
        </p:blipFill>
        <p:spPr>
          <a:xfrm>
            <a:off x="5219640" y="4267080"/>
            <a:ext cx="3390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louds that produce heavy thunderstorms in summer are a form of cumulus clouds called cumulonimbus. Cumulonimbus clouds may extend upward for hundreds of meter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558800" y="1219320"/>
            <a:ext cx="6019920" cy="4419360"/>
          </a:xfrm>
          <a:custGeom>
            <a:avLst/>
            <a:gdLst>
              <a:gd name="textAreaLeft" fmla="*/ 286200 w 6019920"/>
              <a:gd name="textAreaRight" fmla="*/ 5733720 w 6019920"/>
              <a:gd name="textAreaTop" fmla="*/ 286200 h 4419360"/>
              <a:gd name="textAreaBottom" fmla="*/ 4133160 h 4419360"/>
            </a:gdLst>
            <a:ahLst/>
            <a:rect l="textAreaLeft" t="textAreaTop" r="textAreaRight" b="textAreaBottom"/>
            <a:pathLst>
              <a:path w="29422" h="21600">
                <a:moveTo>
                  <a:pt x="0" y="0"/>
                </a:moveTo>
                <a:lnTo>
                  <a:pt x="29422" y="0"/>
                </a:lnTo>
                <a:lnTo>
                  <a:pt x="29422" y="21600"/>
                </a:lnTo>
                <a:lnTo>
                  <a:pt x="0" y="21600"/>
                </a:lnTo>
                <a:close/>
              </a:path>
              <a:path fill="lightenLess" w="29422" h="21600">
                <a:moveTo>
                  <a:pt x="0" y="0"/>
                </a:moveTo>
                <a:lnTo>
                  <a:pt x="29422" y="0"/>
                </a:lnTo>
                <a:lnTo>
                  <a:pt x="28022" y="1400"/>
                </a:lnTo>
                <a:lnTo>
                  <a:pt x="1400" y="1400"/>
                </a:lnTo>
                <a:close/>
              </a:path>
              <a:path fill="darken" w="29422" h="21600">
                <a:moveTo>
                  <a:pt x="29422" y="0"/>
                </a:moveTo>
                <a:lnTo>
                  <a:pt x="29422" y="21600"/>
                </a:lnTo>
                <a:lnTo>
                  <a:pt x="28022" y="20200"/>
                </a:lnTo>
                <a:lnTo>
                  <a:pt x="28022" y="1400"/>
                </a:lnTo>
                <a:close/>
              </a:path>
              <a:path fill="darkenLess" w="29422" h="21600">
                <a:moveTo>
                  <a:pt x="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22" y="20200"/>
                </a:lnTo>
                <a:close/>
              </a:path>
              <a:path fill="lighten" w="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r Weather Cu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louds13"/>
          <p:cNvPicPr/>
          <p:nvPr/>
        </p:nvPicPr>
        <p:blipFill>
          <a:blip r:embed="rId1"/>
          <a:stretch/>
        </p:blipFill>
        <p:spPr>
          <a:xfrm>
            <a:off x="1909800" y="1614600"/>
            <a:ext cx="53244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533520" y="68580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umulus4"/>
          <p:cNvPicPr/>
          <p:nvPr/>
        </p:nvPicPr>
        <p:blipFill>
          <a:blip r:embed="rId1"/>
          <a:stretch/>
        </p:blipFill>
        <p:spPr>
          <a:xfrm>
            <a:off x="914400" y="985680"/>
            <a:ext cx="73915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533520" y="685800"/>
            <a:ext cx="8076960" cy="5562720"/>
          </a:xfrm>
          <a:custGeom>
            <a:avLst/>
            <a:gdLst>
              <a:gd name="textAreaLeft" fmla="*/ 360360 w 8076960"/>
              <a:gd name="textAreaRight" fmla="*/ 7716600 w 807696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1362" h="21600">
                <a:moveTo>
                  <a:pt x="0" y="0"/>
                </a:moveTo>
                <a:lnTo>
                  <a:pt x="31362" y="0"/>
                </a:lnTo>
                <a:lnTo>
                  <a:pt x="31362" y="21600"/>
                </a:lnTo>
                <a:lnTo>
                  <a:pt x="0" y="21600"/>
                </a:lnTo>
                <a:close/>
              </a:path>
              <a:path fill="lightenLess" w="31362" h="21600">
                <a:moveTo>
                  <a:pt x="0" y="0"/>
                </a:moveTo>
                <a:lnTo>
                  <a:pt x="31362" y="0"/>
                </a:lnTo>
                <a:lnTo>
                  <a:pt x="29962" y="1400"/>
                </a:lnTo>
                <a:lnTo>
                  <a:pt x="1400" y="1400"/>
                </a:lnTo>
                <a:close/>
              </a:path>
              <a:path fill="darken" w="31362" h="21600">
                <a:moveTo>
                  <a:pt x="31362" y="0"/>
                </a:moveTo>
                <a:lnTo>
                  <a:pt x="31362" y="21600"/>
                </a:lnTo>
                <a:lnTo>
                  <a:pt x="29962" y="20200"/>
                </a:lnTo>
                <a:lnTo>
                  <a:pt x="29962" y="1400"/>
                </a:lnTo>
                <a:close/>
              </a:path>
              <a:path fill="darkenLess" w="31362" h="21600">
                <a:moveTo>
                  <a:pt x="31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62" y="20200"/>
                </a:lnTo>
                <a:close/>
              </a:path>
              <a:path fill="lighten" w="31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umulus2"/>
          <p:cNvPicPr/>
          <p:nvPr/>
        </p:nvPicPr>
        <p:blipFill>
          <a:blip r:embed="rId1"/>
          <a:stretch/>
        </p:blipFill>
        <p:spPr>
          <a:xfrm>
            <a:off x="1066680" y="1066680"/>
            <a:ext cx="72612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38080" y="990720"/>
            <a:ext cx="7620120" cy="5181480"/>
          </a:xfrm>
          <a:custGeom>
            <a:avLst/>
            <a:gdLst>
              <a:gd name="textAreaLeft" fmla="*/ 335520 w 7620120"/>
              <a:gd name="textAreaRight" fmla="*/ 7284600 w 7620120"/>
              <a:gd name="textAreaTop" fmla="*/ 335520 h 5181480"/>
              <a:gd name="textAreaBottom" fmla="*/ 4845960 h 5181480"/>
            </a:gdLst>
            <a:ahLst/>
            <a:rect l="textAreaLeft" t="textAreaTop" r="textAreaRight" b="textAreaBottom"/>
            <a:pathLst>
              <a:path w="31765" h="21600">
                <a:moveTo>
                  <a:pt x="0" y="0"/>
                </a:moveTo>
                <a:lnTo>
                  <a:pt x="31765" y="0"/>
                </a:lnTo>
                <a:lnTo>
                  <a:pt x="31765" y="21600"/>
                </a:lnTo>
                <a:lnTo>
                  <a:pt x="0" y="21600"/>
                </a:lnTo>
                <a:close/>
              </a:path>
              <a:path fill="lightenLess" w="31765" h="21600">
                <a:moveTo>
                  <a:pt x="0" y="0"/>
                </a:moveTo>
                <a:lnTo>
                  <a:pt x="31765" y="0"/>
                </a:lnTo>
                <a:lnTo>
                  <a:pt x="30365" y="1400"/>
                </a:lnTo>
                <a:lnTo>
                  <a:pt x="1400" y="1400"/>
                </a:lnTo>
                <a:close/>
              </a:path>
              <a:path fill="darken" w="31765" h="21600">
                <a:moveTo>
                  <a:pt x="31765" y="0"/>
                </a:moveTo>
                <a:lnTo>
                  <a:pt x="31765" y="21600"/>
                </a:lnTo>
                <a:lnTo>
                  <a:pt x="30365" y="20200"/>
                </a:lnTo>
                <a:lnTo>
                  <a:pt x="30365" y="1400"/>
                </a:lnTo>
                <a:close/>
              </a:path>
              <a:path fill="darkenLess" w="31765" h="21600">
                <a:moveTo>
                  <a:pt x="31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5" y="20200"/>
                </a:lnTo>
                <a:close/>
              </a:path>
              <a:path fill="lighten" w="31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umulus3"/>
          <p:cNvPicPr/>
          <p:nvPr/>
        </p:nvPicPr>
        <p:blipFill>
          <a:blip r:embed="rId1"/>
          <a:stretch/>
        </p:blipFill>
        <p:spPr>
          <a:xfrm>
            <a:off x="1371600" y="1371600"/>
            <a:ext cx="6705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umulonimbus.jpg"/>
          <p:cNvPicPr/>
          <p:nvPr/>
        </p:nvPicPr>
        <p:blipFill>
          <a:blip r:embed="rId1"/>
          <a:stretch/>
        </p:blipFill>
        <p:spPr>
          <a:xfrm>
            <a:off x="1828800" y="349200"/>
            <a:ext cx="5254560" cy="58993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oud Na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s of specific types of clouds are created by combining the name of the cloud's shape with the name of the cloud's heigh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cumulonimbus2.jpg"/>
          <p:cNvPicPr/>
          <p:nvPr/>
        </p:nvPicPr>
        <p:blipFill>
          <a:blip r:embed="rId1"/>
          <a:stretch/>
        </p:blipFill>
        <p:spPr>
          <a:xfrm>
            <a:off x="682560" y="378000"/>
            <a:ext cx="751680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795960" y="5867280"/>
            <a:ext cx="79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onimbus – notice the anvil shap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anvil.png"/>
          <p:cNvPicPr/>
          <p:nvPr/>
        </p:nvPicPr>
        <p:blipFill>
          <a:blip r:embed="rId2"/>
          <a:stretch/>
        </p:blipFill>
        <p:spPr>
          <a:xfrm>
            <a:off x="2882880" y="3797280"/>
            <a:ext cx="31701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riting Activit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rite a paragraph about one type of cloud.  Include 3 or more facts about the clou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3 main types of clou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mulus or fluffy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us or layered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rus or thin feathery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2"/>
          <p:cNvGrpSpPr/>
          <p:nvPr/>
        </p:nvGrpSpPr>
        <p:grpSpPr>
          <a:xfrm>
            <a:off x="304920" y="3657600"/>
            <a:ext cx="3200400" cy="2852280"/>
            <a:chOff x="304920" y="3657600"/>
            <a:chExt cx="3200400" cy="2852280"/>
          </a:xfrm>
        </p:grpSpPr>
        <p:pic>
          <p:nvPicPr>
            <p:cNvPr id="56" name="Picture 5" descr="cumulus5.jpg (2658 bytes)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19160" cy="22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9"/>
            <p:cNvSpPr/>
            <p:nvPr/>
          </p:nvSpPr>
          <p:spPr>
            <a:xfrm>
              <a:off x="609480" y="586728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umulu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6248520" y="3657600"/>
            <a:ext cx="2743200" cy="2852280"/>
            <a:chOff x="6248520" y="3657600"/>
            <a:chExt cx="2743200" cy="2852280"/>
          </a:xfrm>
        </p:grpSpPr>
        <p:pic>
          <p:nvPicPr>
            <p:cNvPr id="59" name="Picture 13" descr="fluffy cirrus">
              <a:hlinkClick r:id="rId2"/>
            </p:cNvPr>
            <p:cNvPicPr/>
            <p:nvPr/>
          </p:nvPicPr>
          <p:blipFill>
            <a:blip r:embed="rId3"/>
            <a:srcRect l="0" t="0" r="20024" b="0"/>
            <a:stretch/>
          </p:blipFill>
          <p:spPr>
            <a:xfrm>
              <a:off x="6248520" y="3657600"/>
              <a:ext cx="27432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14"/>
            <p:cNvSpPr/>
            <p:nvPr/>
          </p:nvSpPr>
          <p:spPr>
            <a:xfrm>
              <a:off x="6929280" y="5867280"/>
              <a:ext cx="152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irru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1"/>
          <p:cNvGrpSpPr/>
          <p:nvPr/>
        </p:nvGrpSpPr>
        <p:grpSpPr>
          <a:xfrm>
            <a:off x="3352680" y="3657600"/>
            <a:ext cx="2667240" cy="2852280"/>
            <a:chOff x="3352680" y="3657600"/>
            <a:chExt cx="2667240" cy="2852280"/>
          </a:xfrm>
        </p:grpSpPr>
        <p:sp>
          <p:nvSpPr>
            <p:cNvPr id="62" name="Rectangle 11"/>
            <p:cNvSpPr/>
            <p:nvPr/>
          </p:nvSpPr>
          <p:spPr>
            <a:xfrm>
              <a:off x="3728520" y="5867280"/>
              <a:ext cx="175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tratu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9" descr="stratus"/>
            <p:cNvPicPr/>
            <p:nvPr/>
          </p:nvPicPr>
          <p:blipFill>
            <a:blip r:embed="rId4"/>
            <a:stretch/>
          </p:blipFill>
          <p:spPr>
            <a:xfrm>
              <a:off x="3352680" y="3657600"/>
              <a:ext cx="2667240" cy="221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066680" y="1676520"/>
            <a:ext cx="7391520" cy="4724280"/>
          </a:xfrm>
          <a:custGeom>
            <a:avLst/>
            <a:gdLst>
              <a:gd name="textAreaLeft" fmla="*/ 306000 w 7391520"/>
              <a:gd name="textAreaRight" fmla="*/ 7085520 w 7391520"/>
              <a:gd name="textAreaTop" fmla="*/ 306000 h 4724280"/>
              <a:gd name="textAreaBottom" fmla="*/ 4418280 h 4724280"/>
            </a:gdLst>
            <a:ahLst/>
            <a:rect l="textAreaLeft" t="textAreaTop" r="textAreaRight" b="textAreaBottom"/>
            <a:pathLst>
              <a:path w="33794" h="21600">
                <a:moveTo>
                  <a:pt x="0" y="0"/>
                </a:moveTo>
                <a:lnTo>
                  <a:pt x="33794" y="0"/>
                </a:lnTo>
                <a:lnTo>
                  <a:pt x="33794" y="21600"/>
                </a:lnTo>
                <a:lnTo>
                  <a:pt x="0" y="21600"/>
                </a:lnTo>
                <a:close/>
              </a:path>
              <a:path fill="lightenLess" w="33794" h="21600">
                <a:moveTo>
                  <a:pt x="0" y="0"/>
                </a:moveTo>
                <a:lnTo>
                  <a:pt x="33794" y="0"/>
                </a:lnTo>
                <a:lnTo>
                  <a:pt x="32394" y="1400"/>
                </a:lnTo>
                <a:lnTo>
                  <a:pt x="1400" y="1400"/>
                </a:lnTo>
                <a:close/>
              </a:path>
              <a:path fill="darken" w="33794" h="21600">
                <a:moveTo>
                  <a:pt x="33794" y="0"/>
                </a:moveTo>
                <a:lnTo>
                  <a:pt x="33794" y="21600"/>
                </a:lnTo>
                <a:lnTo>
                  <a:pt x="32394" y="20200"/>
                </a:lnTo>
                <a:lnTo>
                  <a:pt x="32394" y="1400"/>
                </a:lnTo>
                <a:close/>
              </a:path>
              <a:path fill="darkenLess" w="33794" h="21600">
                <a:moveTo>
                  <a:pt x="33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94" y="20200"/>
                </a:lnTo>
                <a:close/>
              </a:path>
              <a:path fill="lighten" w="33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429000" y="6858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wide angle of dawn on cirrus"/>
          <p:cNvPicPr/>
          <p:nvPr/>
        </p:nvPicPr>
        <p:blipFill>
          <a:blip r:embed="rId1"/>
          <a:stretch/>
        </p:blipFill>
        <p:spPr>
          <a:xfrm>
            <a:off x="1517760" y="2022480"/>
            <a:ext cx="6476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rru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es from a Latin word and means a tuft or curl of hair. Cirrus clouds are very wispy and feathery looking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503360" y="2133720"/>
            <a:ext cx="6019920" cy="4419360"/>
          </a:xfrm>
          <a:custGeom>
            <a:avLst/>
            <a:gdLst>
              <a:gd name="textAreaLeft" fmla="*/ 286200 w 6019920"/>
              <a:gd name="textAreaRight" fmla="*/ 5733720 w 6019920"/>
              <a:gd name="textAreaTop" fmla="*/ 286200 h 4419360"/>
              <a:gd name="textAreaBottom" fmla="*/ 4133160 h 4419360"/>
            </a:gdLst>
            <a:ahLst/>
            <a:rect l="textAreaLeft" t="textAreaTop" r="textAreaRight" b="textAreaBottom"/>
            <a:pathLst>
              <a:path w="29422" h="21600">
                <a:moveTo>
                  <a:pt x="0" y="0"/>
                </a:moveTo>
                <a:lnTo>
                  <a:pt x="29422" y="0"/>
                </a:lnTo>
                <a:lnTo>
                  <a:pt x="29422" y="21600"/>
                </a:lnTo>
                <a:lnTo>
                  <a:pt x="0" y="21600"/>
                </a:lnTo>
                <a:close/>
              </a:path>
              <a:path fill="lightenLess" w="29422" h="21600">
                <a:moveTo>
                  <a:pt x="0" y="0"/>
                </a:moveTo>
                <a:lnTo>
                  <a:pt x="29422" y="0"/>
                </a:lnTo>
                <a:lnTo>
                  <a:pt x="28022" y="1400"/>
                </a:lnTo>
                <a:lnTo>
                  <a:pt x="1400" y="1400"/>
                </a:lnTo>
                <a:close/>
              </a:path>
              <a:path fill="darken" w="29422" h="21600">
                <a:moveTo>
                  <a:pt x="29422" y="0"/>
                </a:moveTo>
                <a:lnTo>
                  <a:pt x="29422" y="21600"/>
                </a:lnTo>
                <a:lnTo>
                  <a:pt x="28022" y="20200"/>
                </a:lnTo>
                <a:lnTo>
                  <a:pt x="28022" y="1400"/>
                </a:lnTo>
                <a:close/>
              </a:path>
              <a:path fill="darkenLess" w="29422" h="21600">
                <a:moveTo>
                  <a:pt x="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22" y="20200"/>
                </a:lnTo>
                <a:close/>
              </a:path>
              <a:path fill="lighten" w="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ong stringy cirrus clouds are called "mares' tails.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louds10"/>
          <p:cNvPicPr/>
          <p:nvPr/>
        </p:nvPicPr>
        <p:blipFill>
          <a:blip r:embed="rId1"/>
          <a:stretch/>
        </p:blipFill>
        <p:spPr>
          <a:xfrm>
            <a:off x="1828800" y="2514600"/>
            <a:ext cx="5410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838080" y="990720"/>
            <a:ext cx="7620120" cy="5181480"/>
          </a:xfrm>
          <a:custGeom>
            <a:avLst/>
            <a:gdLst>
              <a:gd name="textAreaLeft" fmla="*/ 335520 w 7620120"/>
              <a:gd name="textAreaRight" fmla="*/ 7284600 w 7620120"/>
              <a:gd name="textAreaTop" fmla="*/ 335520 h 5181480"/>
              <a:gd name="textAreaBottom" fmla="*/ 4845960 h 5181480"/>
            </a:gdLst>
            <a:ahLst/>
            <a:rect l="textAreaLeft" t="textAreaTop" r="textAreaRight" b="textAreaBottom"/>
            <a:pathLst>
              <a:path w="31765" h="21600">
                <a:moveTo>
                  <a:pt x="0" y="0"/>
                </a:moveTo>
                <a:lnTo>
                  <a:pt x="31765" y="0"/>
                </a:lnTo>
                <a:lnTo>
                  <a:pt x="31765" y="21600"/>
                </a:lnTo>
                <a:lnTo>
                  <a:pt x="0" y="21600"/>
                </a:lnTo>
                <a:close/>
              </a:path>
              <a:path fill="lightenLess" w="31765" h="21600">
                <a:moveTo>
                  <a:pt x="0" y="0"/>
                </a:moveTo>
                <a:lnTo>
                  <a:pt x="31765" y="0"/>
                </a:lnTo>
                <a:lnTo>
                  <a:pt x="30365" y="1400"/>
                </a:lnTo>
                <a:lnTo>
                  <a:pt x="1400" y="1400"/>
                </a:lnTo>
                <a:close/>
              </a:path>
              <a:path fill="darken" w="31765" h="21600">
                <a:moveTo>
                  <a:pt x="31765" y="0"/>
                </a:moveTo>
                <a:lnTo>
                  <a:pt x="31765" y="21600"/>
                </a:lnTo>
                <a:lnTo>
                  <a:pt x="30365" y="20200"/>
                </a:lnTo>
                <a:lnTo>
                  <a:pt x="30365" y="1400"/>
                </a:lnTo>
                <a:close/>
              </a:path>
              <a:path fill="darkenLess" w="31765" h="21600">
                <a:moveTo>
                  <a:pt x="31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5" y="20200"/>
                </a:lnTo>
                <a:close/>
              </a:path>
              <a:path fill="lighten" w="31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nice cirrus"/>
          <p:cNvPicPr/>
          <p:nvPr/>
        </p:nvPicPr>
        <p:blipFill>
          <a:blip r:embed="rId1"/>
          <a:stretch/>
        </p:blipFill>
        <p:spPr>
          <a:xfrm>
            <a:off x="1295280" y="1379520"/>
            <a:ext cx="66294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2778120" y="13716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irrus Boat"/>
          <p:cNvPicPr/>
          <p:nvPr/>
        </p:nvPicPr>
        <p:blipFill>
          <a:blip r:embed="rId1"/>
          <a:stretch/>
        </p:blipFill>
        <p:spPr>
          <a:xfrm>
            <a:off x="3124080" y="1676520"/>
            <a:ext cx="26211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21:45:32Z</dcterms:created>
  <dc:creator>bogue</dc:creator>
  <dc:description/>
  <dc:language>en-US</dc:language>
  <cp:lastModifiedBy>jluckey</cp:lastModifiedBy>
  <dcterms:modified xsi:type="dcterms:W3CDTF">2013-05-15T14:34:53Z</dcterms:modified>
  <cp:revision>34</cp:revision>
  <dc:subject/>
  <dc:title>Clouds</dc:title>
</cp:coreProperties>
</file>